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BE2-36F7-4685-9694-25AB4591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9AE-5F70-4A01-8F5A-353FC0D3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313-80EA-4AEF-A0C3-B4F9A1A1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E44-411C-4EBC-98C1-4C44704D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974-03AC-474D-BCF0-20FBDA0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948-EB30-49F7-9451-42C9909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19A-D76A-471F-903B-735CEAF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764-8373-4AE3-9AC4-1B19D4E0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DF4-AA78-4AA7-A43E-90724A2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BE6-97E7-4BB6-8FC0-6403F62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823-1C74-48AD-947D-ACDCBF23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F35-2909-4D29-8AD4-0826C74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45BF-29B0-445D-A884-4BB985C8C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143000"/>
            <a:ext cx="7086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emissions from fossil fuel combus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350532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uel more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7480" y="5029200"/>
            <a:ext cx="2414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3200400"/>
            <a:ext cx="2133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ce with renewabl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2057400"/>
            <a:ext cx="1143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971800" y="259092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267080" y="2666880"/>
            <a:ext cx="76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RESEARCH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fulfil utilisation and network stability 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-time operation: cannot be too com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971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eveloped a simple algorithm using supply/demand matching and cost/benefit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0384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upply assigned a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demand assigned a benef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ies and demands matched for optimal benefit/cost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EMONSTR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edman" descr=""/>
          <p:cNvPicPr/>
          <p:nvPr/>
        </p:nvPicPr>
        <p:blipFill>
          <a:blip r:embed="rId1"/>
          <a:stretch/>
        </p:blipFill>
        <p:spPr>
          <a:xfrm>
            <a:off x="281160" y="1143000"/>
            <a:ext cx="84056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SING FUEL MORE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22200" y="1376280"/>
          <a:ext cx="666756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376280"/>
                    <a:ext cx="666756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54864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inary thermal generating plant only uses 33% of fuel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P plant can use up to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owerstn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735280" cy="2264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15200" y="1828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 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8001000" y="2209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ouse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622080" cy="669960"/>
          </a:xfrm>
          <a:prstGeom prst="rect">
            <a:avLst/>
          </a:prstGeom>
          <a:ln w="0">
            <a:noFill/>
          </a:ln>
        </p:spPr>
      </p:pic>
      <p:pic>
        <p:nvPicPr>
          <p:cNvPr id="59" name="house" descr=""/>
          <p:cNvPicPr/>
          <p:nvPr/>
        </p:nvPicPr>
        <p:blipFill>
          <a:blip r:embed="rId3"/>
          <a:stretch/>
        </p:blipFill>
        <p:spPr>
          <a:xfrm>
            <a:off x="1447920" y="4191120"/>
            <a:ext cx="906480" cy="974520"/>
          </a:xfrm>
          <a:prstGeom prst="rect">
            <a:avLst/>
          </a:prstGeom>
          <a:ln w="0">
            <a:noFill/>
          </a:ln>
        </p:spPr>
      </p:pic>
      <p:pic>
        <p:nvPicPr>
          <p:cNvPr id="60" name="house" descr=""/>
          <p:cNvPicPr/>
          <p:nvPr/>
        </p:nvPicPr>
        <p:blipFill>
          <a:blip r:embed="rId4"/>
          <a:stretch/>
        </p:blipFill>
        <p:spPr>
          <a:xfrm>
            <a:off x="609480" y="2971800"/>
            <a:ext cx="411120" cy="441360"/>
          </a:xfrm>
          <a:prstGeom prst="rect">
            <a:avLst/>
          </a:prstGeom>
          <a:ln w="0">
            <a:noFill/>
          </a:ln>
        </p:spPr>
      </p:pic>
      <p:pic>
        <p:nvPicPr>
          <p:cNvPr id="61" name="house" descr=""/>
          <p:cNvPicPr/>
          <p:nvPr/>
        </p:nvPicPr>
        <p:blipFill>
          <a:blip r:embed="rId5"/>
          <a:stretch/>
        </p:blipFill>
        <p:spPr>
          <a:xfrm>
            <a:off x="228600" y="2819520"/>
            <a:ext cx="339840" cy="365040"/>
          </a:xfrm>
          <a:prstGeom prst="rect">
            <a:avLst/>
          </a:prstGeom>
          <a:ln w="0">
            <a:noFill/>
          </a:ln>
        </p:spPr>
      </p:pic>
      <p:pic>
        <p:nvPicPr>
          <p:cNvPr id="62" name="house" descr=""/>
          <p:cNvPicPr/>
          <p:nvPr/>
        </p:nvPicPr>
        <p:blipFill>
          <a:blip r:embed="rId6"/>
          <a:stretch/>
        </p:blipFill>
        <p:spPr>
          <a:xfrm>
            <a:off x="380880" y="3733920"/>
            <a:ext cx="552600" cy="593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53080" y="4800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90512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heat and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4191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85640" y="41911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82844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914040" y="411480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914040" y="342864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80880" y="342864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04560" y="320004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048120"/>
            <a:ext cx="21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ity transmitted over long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ENTRALISE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MBEDDE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is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ONTROLLING CENTRALISE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stn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13147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croom" descr=""/>
          <p:cNvPicPr/>
          <p:nvPr/>
        </p:nvPicPr>
        <p:blipFill>
          <a:blip r:embed="rId2"/>
          <a:stretch/>
        </p:blipFill>
        <p:spPr>
          <a:xfrm>
            <a:off x="2362320" y="3733920"/>
            <a:ext cx="4068720" cy="2458800"/>
          </a:xfrm>
          <a:prstGeom prst="rect">
            <a:avLst/>
          </a:prstGeom>
          <a:ln w="0">
            <a:noFill/>
          </a:ln>
        </p:spPr>
      </p:pic>
      <p:pic>
        <p:nvPicPr>
          <p:cNvPr id="79" name="xfmr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982800" cy="1173240"/>
          </a:xfrm>
          <a:prstGeom prst="rect">
            <a:avLst/>
          </a:prstGeom>
          <a:ln w="0">
            <a:noFill/>
          </a:ln>
        </p:spPr>
      </p:pic>
      <p:pic>
        <p:nvPicPr>
          <p:cNvPr id="80" name="pstn" descr=""/>
          <p:cNvPicPr/>
          <p:nvPr/>
        </p:nvPicPr>
        <p:blipFill>
          <a:blip r:embed="rId4"/>
          <a:stretch/>
        </p:blipFill>
        <p:spPr>
          <a:xfrm>
            <a:off x="457200" y="2743200"/>
            <a:ext cx="933480" cy="86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36576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371600" y="36572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43828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752120" y="2437920"/>
            <a:ext cx="838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1148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438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26668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voltages, currents, power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8098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477120" y="4191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990720"/>
            <a:ext cx="2971800" cy="10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ntrol is required for optimum utilisation and network stabilit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ONTROLLING EMBEDDED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4829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7242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trol is still required. But, no suitable control system exis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HALLENGES OF EG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number of small gen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predictable output from RE gen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interactions between generators and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POSSIBLE EG CONTRO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iscon" descr=""/>
          <p:cNvPicPr/>
          <p:nvPr/>
        </p:nvPicPr>
        <p:blipFill>
          <a:blip r:embed="rId1"/>
          <a:stretch/>
        </p:blipFill>
        <p:spPr>
          <a:xfrm>
            <a:off x="304920" y="963720"/>
            <a:ext cx="86659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ARDWARE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828440" y="1752480"/>
            <a:ext cx="5638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and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data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generation control (AG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88620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 systems currently have little or no AGC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we developed the ‘smart inverter’ which adds AGC to many R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15:43:40Z</dcterms:created>
  <dc:creator>Steve</dc:creator>
  <dc:description/>
  <dc:language>en-US</dc:language>
  <cp:lastModifiedBy>Steve</cp:lastModifiedBy>
  <dcterms:modified xsi:type="dcterms:W3CDTF">2001-02-01T12:41:00Z</dcterms:modified>
  <cp:revision>13</cp:revision>
  <dc:subject/>
  <dc:title>No Slide Title</dc:title>
</cp:coreProperties>
</file>