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6E8-8A6D-408C-BFA4-A88656D0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FA2-D246-4812-BF7A-948397C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C9B-77CE-4936-85DA-D55B2237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E54-A64D-48BF-8D51-5C572F27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B2E-EEF4-4A3E-96FE-F69907CF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C4F-11E4-4DC4-842E-1C7EF619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0A2-4226-4F51-BE0E-7F1CFB8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B4C-3BAA-477A-919B-57AEDEE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180-E117-441F-9DF4-69E4972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B2E-8333-47A2-BD6A-3784564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9F8-98C4-4F98-8A7B-C550738A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EA6-4A03-4561-995C-7CDF169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CEC5-4D72-4CD9-BB01-272016A16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Monitoring of renewable energy sources and control of energy supply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switching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ephen Co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828800"/>
            <a:ext cx="79250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earch objective: Find new ways of controlling renewable energy systems, to improve efficien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/control power from solar pa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 charge of storage batt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 export/import of power from 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work with large numbers of small systems (distributed gener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EXPERIMENT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6" name="trolley" descr=""/>
          <p:cNvPicPr/>
          <p:nvPr/>
        </p:nvPicPr>
        <p:blipFill>
          <a:blip r:embed="rId1"/>
          <a:stretch/>
        </p:blipFill>
        <p:spPr>
          <a:xfrm>
            <a:off x="3092400" y="1295280"/>
            <a:ext cx="3156120" cy="4586400"/>
          </a:xfrm>
          <a:prstGeom prst="rect">
            <a:avLst/>
          </a:prstGeom>
          <a:ln w="0">
            <a:noFill/>
          </a:ln>
        </p:spPr>
      </p:pic>
      <p:pic>
        <p:nvPicPr>
          <p:cNvPr id="47" name="pv2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703600" cy="3313080"/>
          </a:xfrm>
          <a:prstGeom prst="rect">
            <a:avLst/>
          </a:prstGeom>
          <a:ln w="0">
            <a:noFill/>
          </a:ln>
        </p:spPr>
      </p:pic>
      <p:pic>
        <p:nvPicPr>
          <p:cNvPr id="48" name="inverter" descr=""/>
          <p:cNvPicPr/>
          <p:nvPr/>
        </p:nvPicPr>
        <p:blipFill>
          <a:blip r:embed="rId3"/>
          <a:stretch/>
        </p:blipFill>
        <p:spPr>
          <a:xfrm>
            <a:off x="6438960" y="1581120"/>
            <a:ext cx="2324160" cy="390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6095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all RE system used for development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ardwa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91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mplete experimental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ftwar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52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5562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Socket connects programs together - even on different 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DATASOCKE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datasocket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02640" cy="2324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6576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ed any data into DS Write VI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comes out of DS Read V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1814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RL: dstp://name.of.machine.running.server/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PRINTER PORT I/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" name="outport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3201840" cy="173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44197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t Port VI lets you use PC parallel port as general purpose digital I/O. 8 lines used to control inver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invmk2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565360" cy="218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48320" y="2971800"/>
            <a:ext cx="76176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Narrow"/>
              </a:rPr>
              <a:t>SOUNDCARD POWER METE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5" name="scpanel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15000" cy="4668840"/>
          </a:xfrm>
          <a:prstGeom prst="rect">
            <a:avLst/>
          </a:prstGeom>
          <a:ln w="0">
            <a:noFill/>
          </a:ln>
        </p:spPr>
      </p:pic>
      <p:pic>
        <p:nvPicPr>
          <p:cNvPr id="66" name="scpwr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779800" cy="276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426708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nd chip can be used as general-purpose A/D converter. Used here for true RMS power me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kyline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AN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34:41Z</dcterms:created>
  <dc:creator>Scope Boy</dc:creator>
  <dc:description/>
  <dc:language>en-US</dc:language>
  <cp:lastModifiedBy>Scope Boy</cp:lastModifiedBy>
  <dcterms:modified xsi:type="dcterms:W3CDTF">2002-10-30T12:20:06Z</dcterms:modified>
  <cp:revision>8</cp:revision>
  <dc:subject/>
  <dc:title>No Slide Title</dc:title>
</cp:coreProperties>
</file>